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F9B5-AD8D-407B-8B07-22778ECE51A4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7DF-62A9-421E-A34E-7F0C5407344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Educariumin aula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56B-9FD8-454B-B682-4A8C5C55CDE9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1 käyttöön otettu Educarium, Assistentinkatu 5 (Kasvatustieteet, opettajankoulutus, ATK-keskus) Rakennuksen ovat suunnitelleet arkkitehdit Matti Nurmela, Antti Luutonen, Anne Kleemola ja Matti Huhta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2001 Educarium has housed the Faculty of Education, the Department of Teacher Education and the University Computing Cent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9A0-9DA6-4477-BDA2-1D7A763761F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A33-3E4C-44B2-8829-2D248292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CC3-7564-4E75-B8D0-C408F97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804-AE17-41AE-8722-62D5C81D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7D5-BD12-4A15-B4C2-84CF1CBF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81C-49D2-42E9-BD4F-A1C12895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AFB8-66B5-449B-AD90-9608BA7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0F2-8277-492F-A962-AE3B21A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986-A595-4C74-A37B-C76CF72F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6C7-EC82-4B9D-91F3-63B40E92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C01-8E4D-4E80-806B-749BE80F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56B7-BE2F-465B-9CB2-67AFB15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6C9-C037-4AD4-A23C-C4B1A93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D7F2-08AB-4917-9401-A9F2DFD2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721D-3E34-4566-BD5C-DC60B00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E7E6-F173-4069-8D37-51FA9CE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59CF-3AFB-454B-9820-CB94D58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BB76-4868-4E80-B250-150AEA25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4B5-CDC8-4007-A5AD-3D4C0B13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22F-2B60-4DF6-A9AC-AE79E454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9E8-AA65-4C05-885E-A723209E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EAB-E676-47FB-B639-850D1933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01D-8593-4900-AB73-7515542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D31-8153-4302-A357-AA42EF3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E0E-BBA9-4053-80E1-7E093DA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7DE5-B310-4D70-A365-1B4912EE5DC4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4CFB-078E-4CEA-80C6-1A7C1C7933B7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520" y="2133360"/>
            <a:ext cx="7283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2062-9F3D-421D-8D1B-DE7175ACD42F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F9C-FE50-4222-8B9A-AE1F20F4DB8F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6520" y="5444640"/>
            <a:ext cx="728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оллонский процесс и новые степен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С августа 2005 года Финляндия присоединилась к Боллонскому Соглашению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Университетское образование имеет двухступенчатую структуру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ервый цикл заканчивается на уровне бакалавратуры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минимум 3 года обучения, 180 кредитов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торой цикл заканчивается на уровне магистратур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одробнее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http://www.edu.utu.fi/en/studying/undergradu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9AC-ADE9-4CED-B711-5991210C0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Структура степеней </a:t>
            </a: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бразование, образование взрослых, специальное образовани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Языки, коммуникация, методика -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6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Начальное образование (1-7 классы)-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5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, основное образование – 35 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s (2-3) 50-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to Working Life 20-24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10-24 ECTS</a:t>
            </a:r>
            <a:r>
              <a:rPr b="0" lang="fi-FI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45 ECTS (e.g. minor subject studies or pedagogical studies in teacher educatio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2AC-BFD8-4D8C-9317-370276B71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LASS TEACHER EDUCATION</a:t>
            </a: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*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Studies in Subjects Taught in Comprehensive School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4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136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Education 80 ECTS (incl. Pedagogical Studies in Teacher Ed. 35 ECTS* and Thesis 3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609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* Pedagogical Studies in Teacher Education 60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C8D-6640-4AFA-A19E-3789323E59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RAFT TEACHER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Craft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7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136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Craft Education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CF6-93E7-4CF0-B03D-DED269E56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KINDERGARTEN TEACHER EDU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ofessional Studies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actise 1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007-CAFC-43A8-A907-77C65992F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LEARNING, LEARNING ENVIRONMENTS &amp; EDUCATIONAL SYSTE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2349360"/>
            <a:ext cx="7283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and General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80 ECTS (incl. Thesis 40 ECTS and internship 10 ECTS)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 Studies and Special Fields 30 ECT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4CF-961C-4DB5-AFE6-2E0191905A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снован в 1974 году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375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удентов-соискателей степени баклавров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and 26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- степени магистр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9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оискателей степени доктора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Ежегодно подают заявления около 50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принимают менее 3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Шта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: 18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 чел.факульте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+ 12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в школах, где проводится практик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епени в 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2008: BA 197, MA 349, Phil. Lic. 6, Ph.D. 8</a:t>
            </a: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012-7477-4DA4-9EF3-B485CE0CB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728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тделения факультет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учителей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 Турк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 учителей в Раум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азовые школы (где организована практика студентов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Турку(все уровни школьного образования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Раума (только начальная школа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190-E981-4B35-BCC9-27DBFDFAF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20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финском языке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3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иностранных языках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7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зарубежо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C18-CF88-491C-816F-C9263CEB2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Исследовательские центры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в области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otuk.utu.fi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непрерывного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vanha.edu.utu.fi/ktl/cele/index_engl.ht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тдел оценки качества и развития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edu.utu.fi/erillisyksikot/koulutuksenarviointi/en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093-6A54-42B5-8F8D-C127605DCD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GRADUATE SCHOOLS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The Finnish National Graduate School in Education and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octoral Programme for Multidisciplinary Research on Learning Environ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Graduate School for Family Stud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EDUCA – the internal graduate school of the Faculty of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B76-8DC3-4149-8FF6-8B3C9832E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egree programm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Adult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Educational Science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Special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lass Teacher Education (Turku and 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Kindergarten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raft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Learning, Learning Environments and Educational Systems (in English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Educational Sociology &amp; Politics (in Finnish, in cooperation with the University of Helsinki &amp; University of Tampe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295-250D-4AB2-B1CC-D817C0C2E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49:28Z</dcterms:created>
  <dc:creator>Mari Mero</dc:creator>
  <dc:description/>
  <dc:language>en-US</dc:language>
  <cp:lastModifiedBy>Vitaly</cp:lastModifiedBy>
  <dcterms:modified xsi:type="dcterms:W3CDTF">2010-01-16T18:36:26Z</dcterms:modified>
  <cp:revision>61</cp:revision>
  <dc:subject/>
  <dc:title>PÄÄOTSIKKO pp.kk.vvvv | tekijä</dc:title>
</cp:coreProperties>
</file>