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298-09C1-4B09-B94A-742921FA8B14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1A9-4A83-4C04-B1B4-359458DFAE7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Educariumin aula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8748-DAD9-4D31-A6FA-5984E8E878B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1 käyttöön otettu Educarium, Assistentinkatu 5 (Kasvatustieteet, opettajankoulutus, ATK-keskus) Rakennuksen ovat suunnitelleet arkkitehdit Matti Nurmela, Antti Luutonen, Anne Kleemola ja Matti Huhta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2001 Educarium has housed the Faculty of Education, the Department of Teacher Education and the University Computing Cent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BAD-11CC-4B87-AC40-67F0E390D45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7AF-DA69-4BE0-81F1-87FAD11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B7A-75C4-4DB2-AAB0-5388892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523-AC5C-4AA3-B3E7-E4AE876E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665-DF2C-4326-A576-256677C3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3676-9923-4A05-8900-E9900990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6CF0-2D65-412C-AF0F-223B845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918-B5FC-456F-A767-E9B7804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1666-7BF0-4868-A65E-1C4FAE8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D276-3E0F-49D7-9009-B136845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93D-44D3-45F6-BAD3-E82B139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FC3D-46F9-4594-BFBF-2E9017D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39A-91C0-436B-BDD5-47C31577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3A3F-825B-49B8-953C-C56631C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8C8F-5BD6-4FB0-B951-BE5D53B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6ED2-1BB5-4B1E-912D-5D3293B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A3F3-3258-4601-8A70-A439AC71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B06-6A76-4A22-AFC2-DBCAC85D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BBA-BACA-4597-B637-DEF9A2F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2B4-0382-4A49-90EE-5295A1E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C7F-128F-4B7E-A190-017C7C7D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3DA-12C2-45C6-9D2F-7F7D06B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C19-B52A-457D-8FF5-D92A64A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916-C821-4833-BEBC-52557F9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F66-A40F-48BC-A488-B912A80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660-BDF3-4C7A-9AF3-93BC6EE45583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7F5-B3BC-4F77-9681-F7C3BEF23975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520" y="2133360"/>
            <a:ext cx="7283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417-2AA5-4869-ABC9-0DCEAD938BDD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1D4-1928-4FD0-A2B1-62F480E9AED8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6520" y="5444640"/>
            <a:ext cx="728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оллонский процесс и новые степен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С августа 2005 года Финляндия присоединилась к Боллонскому Соглашению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Университетское образование имеет двухступенчатую структуру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ервый цикл заканчивается на уровне бакалавратуры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минимум 3 года обучения, 180 кредитов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торой цикл заканчивается на уровне магистратур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одробнее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http://www.edu.utu.fi/en/studying/undergradu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B22-08A5-4C15-A1FC-6EBF51914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Структура степеней </a:t>
            </a: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бразование, образование взрослых, специальное образовани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Языки, коммуникация, методика -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6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Начальное образование (1-7 классы)-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5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, основное образование – 35 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s (2-3) 50-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to Working Life 20-24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10-24 ECTS</a:t>
            </a:r>
            <a:r>
              <a:rPr b="0" lang="fi-FI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45 ECTS (e.g. minor subject studies or pedagogical studies in teacher educatio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F27-614D-4076-ABCB-1840C84A94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LASS TEACHER EDUCATION</a:t>
            </a: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*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Studies in Subjects Taught in Comprehensive School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4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136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Education 80 ECTS (incl. Pedagogical Studies in Teacher Ed. 35 ECTS* and Thesis 3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609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* Pedagogical Studies in Teacher Education 60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B0C-3AE6-4436-A196-8EF3A7632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RAFT TEACHER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Craft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7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136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Craft Education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60C-5FEB-4D9B-976C-F0BE30456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KINDERGARTEN TEACHER EDU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ofessional Studies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actise 1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28-E7CF-4629-A058-A767147691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LEARNING, LEARNING ENVIRONMENTS &amp; EDUCATIONAL SYSTE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2349360"/>
            <a:ext cx="7283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and General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80 ECTS (incl. Thesis 40 ECTS and internship 10 ECTS)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 Studies and Special Fields 30 ECT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64E-EAAC-4E42-83BA-3DE0A05FE0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снован в 1974 году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375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удентов-соискателей степени баклавров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and 26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- степени магистр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9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оискателей степени доктора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Ежегодно подают заявления около 50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принимают менее 3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Шта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: 18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 чел.факульте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+ 12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в школах, где проводится практик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епени в 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2008: BA 197, MA 349, Phil. Lic. 6, Ph.D. 8</a:t>
            </a: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673-EC23-4D4C-99D8-D6797E7589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728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тделения факультет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учителей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 Турк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 учителей в Раум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азовые школы (где организована практика студентов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Турку(все уровни школьного образования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Раума (только начальная школа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776-9B5D-4BEF-9001-2C8A5DAFD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20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финском языке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3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иностранных языках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7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зарубежо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896-585D-4920-8D6D-BABD7B6C7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Исследовательские центры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в области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otuk.utu.fi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непрерывного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vanha.edu.utu.fi/ktl/cele/index_engl.ht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тдел оценки качества и развития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edu.utu.fi/erillisyksikot/koulutuksenarviointi/en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869-6508-40F1-89DF-ACE1A26D9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GRADUATE SCHOOLS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The Finnish National Graduate School in Education and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octoral Programme for Multidisciplinary Research on Learning Environ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Graduate School for Family Stud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EDUCA – the internal graduate school of the Faculty of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8B-21F7-4478-B08C-70405F304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egree programm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Adult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Educational Science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Special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lass Teacher Education (Turku and 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Kindergarten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raft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Learning, Learning Environments and Educational Systems (in English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Educational Sociology &amp; Politics (in Finnish, in cooperation with the University of Helsinki &amp; University of Tampe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CC2-CAA8-4259-B4D0-C0303B83D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49:28Z</dcterms:created>
  <dc:creator>Mari Mero</dc:creator>
  <dc:description/>
  <dc:language>en-US</dc:language>
  <cp:lastModifiedBy>Vitaly</cp:lastModifiedBy>
  <dcterms:modified xsi:type="dcterms:W3CDTF">2010-01-16T18:36:26Z</dcterms:modified>
  <cp:revision>61</cp:revision>
  <dc:subject/>
  <dc:title>PÄÄOTSIKKO pp.kk.vvvv | tekijä</dc:title>
</cp:coreProperties>
</file>