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D5FA-2E5A-4718-A1F0-A575CF5BAC0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7262-37A4-4915-9AB7-ACDE495690E5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va Educariumin aulas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obby of the Educarium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04C5-FC56-48AC-BBB3-83888C162327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1 käyttöön otettu Educarium, Assistentinkatu 5 (Kasvatustieteet, opettajankoulutus, ATK-keskus) Rakennuksen ovat suunnitelleet arkkitehdit Matti Nurmela, Antti Luutonen, Anne Kleemola ja Matti Huhtam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2001 Educarium has housed the Faculty of Education, the Department of Teacher Education and the University Computing Cent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E204-38BB-4B44-926E-1D85089F1E10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5EC6-2069-4956-B55C-51EFEB2C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C0E-C365-4B86-AD39-1BFCBFE9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DF5-1772-4868-A0FF-4A436FC3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DD3-8994-4E2B-80E1-E2AB3F32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3D6-C328-471C-AA85-C2E40E55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49A4-6439-44C2-9CB2-690FB8D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F4FD-D719-4AF9-BD76-6E1A9D1D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080A-14B9-447C-AC04-5232F45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96FB-AA10-49D9-8918-6F6BC177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841-75E6-4845-AFD2-B31E007E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6AD4-9A52-4BC3-BCB8-BAC6AE8C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090-85B1-4C4B-8293-53C4ECCE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C1D5-01E5-4D02-A9AC-76E8BE5B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C8A0-B87D-4591-B936-6BD768C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8D2E-A08F-4E65-8214-62AC5F0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0CA4-08BD-45FF-BB60-CA3D37D2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59984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4022280"/>
            <a:ext cx="234504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4F6C-D56A-428F-AB02-053020F0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F78-E8D9-4CEB-87BF-4AA1508F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FD2-BDBD-4C91-B7AB-340D676D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1F8-804E-447B-8F77-36F8062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283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6B4-36E5-4D66-AA1D-7D1C152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652-8784-4A14-96C8-F967FE34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402228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462-8830-44BA-9697-78E383B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599840"/>
            <a:ext cx="355428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4022280"/>
            <a:ext cx="728352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92E-8660-4077-9509-B43BFD2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A049-287A-4FB3-8298-5C3961A8D841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FE3-8944-4C43-8230-C3F9EAAB634A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6520" y="2133360"/>
            <a:ext cx="7283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7320" y="157320"/>
            <a:ext cx="982440" cy="656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811640" y="6656400"/>
            <a:ext cx="978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511D-2F9E-482D-9F47-8E5C2F0895F9}" type="datetime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268000" y="6480000"/>
            <a:ext cx="5543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5f5f5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811640" y="6479640"/>
            <a:ext cx="97956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9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1AFA-9389-43DC-ABCC-5CD982B24EA8}" type="slidenum">
              <a:rPr b="0" lang="fi-FI" sz="9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2276640"/>
            <a:ext cx="72723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06520" y="5444640"/>
            <a:ext cx="72835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University of Turku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оллонский процесс и новые степен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С августа 2005 года Финляндия присоединилась к Боллонскому Соглашению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Университетское образование имеет двухступенчатую структуру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ервый цикл заканчивается на уровне бакалавратуры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минимум 3 года обучения, 180 кредитов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торой цикл заканчивается на уровне магистратуры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Подробнее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http://www.edu.utu.fi/en/studying/undergradu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4CF-3D02-4501-9E51-84FEFA59F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Структура степеней </a:t>
            </a: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бразование, образование взрослых, специальное образование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Языки, коммуникация, методика -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6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Начальное образование (1-7 классы)- 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25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кредитов, основное образование – 35 кредитов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s (2-3) 50-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to Working Life 20-24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10-24 ECTS</a:t>
            </a:r>
            <a:r>
              <a:rPr b="0" lang="fi-FI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1360" y="2060640"/>
            <a:ext cx="356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кредитов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s 45 ECTS (e.g. minor subject studies or pedagogical studies in teacher education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FDAE-1632-4494-AA7C-78EA94D92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LASS TEACHER EDUCATION</a:t>
            </a:r>
            <a:br>
              <a:rPr sz="2000"/>
            </a:b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*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Studies in Subjects Taught in Comprehensive School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4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21360" y="1628640"/>
            <a:ext cx="356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Education 80 ECTS (incl. Pedagogical Studies in Teacher Ed. 35 ECTS* and Thesis 3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60930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* Pedagogical Studies in Teacher Education 60 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F0E-811F-4616-AA9B-D1EE6B4585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CRAFT TEACHER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Craft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or Electives 7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1360" y="1599840"/>
            <a:ext cx="3565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Studies 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Craft Education 70 ECTS (incl. Thesis 40 ECTS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edagogical Studies in Teacher Educ. 3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301-F668-433F-9773-0858F14A8E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KINDERGARTEN TEACHER EDUC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2276640"/>
            <a:ext cx="7283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BA 18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Language &amp; Communication Studies 2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sic 25 ECTS &amp; Intermediate Studies 35 ECTS in Educ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ofessional Studies 6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inor Subject Studies 2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Practise 15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5B7-773E-46BA-BE07-553D734250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72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EGREE STRUCTURE: LEARNING, LEARNING ENVIRONMENTS &amp; EDUCATIONAL SYSTEM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3280" y="2349360"/>
            <a:ext cx="72835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MA 120 EC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Orientation and General Studies 10 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Advanced Studies in major 80 ECTS (incl. Thesis 40 ECTS and internship 10 ECTS)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Elective Studies and Special Fields 30 ECT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BB2-5122-4A04-94F1-B9BEA3BD9E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Факультет образовани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снован в 1974 году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375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удентов-соискателей степени баклавров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and 26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- степени магистр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19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оискателей степени доктора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Ежегодно подают заявления около 50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принимают менее 300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Шта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: 180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 чел.факультет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+ 120 </a:t>
            </a: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в школах, где проводится практика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Степени в 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2008: BA 197, MA 349, Phil. Lic. 6, Ph.D. 8</a:t>
            </a:r>
            <a:r>
              <a:rPr b="0" lang="fi-FI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545-FF18-435B-A235-0893DB7CF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03280" y="475920"/>
            <a:ext cx="7283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Отделения факультет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учителей</a:t>
            </a: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в Турк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Отделение образования  учителей в Раум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Базовые школы (где организована практика студентов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Турку(все уровни школьного образования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f5f5f"/>
                </a:solidFill>
                <a:latin typeface="Arial"/>
              </a:rPr>
              <a:t>Школа в Раума (только начальная школа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0193-265E-4B81-AB7C-B26E1E39A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Arial"/>
              </a:rPr>
              <a:t>Публикации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20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финском языке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3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на иностранных языках в Финляндии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70 </a:t>
            </a:r>
            <a:r>
              <a:rPr b="0" lang="ru-RU" sz="3200" spc="-1" strike="noStrike">
                <a:solidFill>
                  <a:srgbClr val="5f5f5f"/>
                </a:solidFill>
                <a:latin typeface="Arial"/>
              </a:rPr>
              <a:t>публикаций в год зарубежом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BC3-C537-41BF-BE03-B08287485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Arial"/>
              </a:rPr>
              <a:t>Исследовательские центры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в области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otuk.utu.fi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Центр исследований непрерывного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vanha.edu.utu.fi/ktl/cele/index_engl.ht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f5f5f"/>
                </a:solidFill>
                <a:latin typeface="Arial"/>
              </a:rPr>
              <a:t>Отдел оценки качества и развития образования</a:t>
            </a:r>
            <a:r>
              <a:rPr b="0" lang="fi-FI" sz="2800" spc="-1" strike="noStrike">
                <a:solidFill>
                  <a:srgbClr val="5f5f5f"/>
                </a:solidFill>
                <a:latin typeface="Arial"/>
              </a:rPr>
              <a:t> www.edu.utu.fi/erillisyksikot/koulutuksenarviointi/en/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93E-2E8C-4224-85C1-6A2C9257DB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GRADUATE SCHOOLS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3280" y="1599840"/>
            <a:ext cx="728352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The Finnish National Graduate School in Education and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octoral Programme for Multidisciplinary Research on Learning Environment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Graduate School for Family Stud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EDUCA – the internal graduate school of the Faculty of Educ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66D-A6BD-4CFF-872F-7C5C9E6CB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03280" y="549360"/>
            <a:ext cx="7283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5f5f5f"/>
                </a:solidFill>
                <a:latin typeface="Arial"/>
              </a:rPr>
              <a:t>Degree programme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Adult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Educational Science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Special Education (Turku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lass Teacher Education (Turku and 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Kindergarten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BA &amp; MA Craft Teacher Education (Rauma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Learning, Learning Environments and Educational Systems (in English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5f5f5f"/>
                </a:solidFill>
                <a:latin typeface="Arial"/>
              </a:rPr>
              <a:t>Master’s degree programme in Educational Sociology &amp; Politics (in Finnish, in cooperation with the University of Helsinki &amp; University of Tampe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9A7-45D9-4761-8AFC-B97D3ECDE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08:49:28Z</dcterms:created>
  <dc:creator>Mari Mero</dc:creator>
  <dc:description/>
  <dc:language>en-US</dc:language>
  <cp:lastModifiedBy>Vitaly</cp:lastModifiedBy>
  <dcterms:modified xsi:type="dcterms:W3CDTF">2010-01-16T18:36:26Z</dcterms:modified>
  <cp:revision>61</cp:revision>
  <dc:subject/>
  <dc:title>PÄÄOTSIKKO pp.kk.vvvv | tekijä</dc:title>
</cp:coreProperties>
</file>