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0F28-E9AB-4F90-807E-D0DCFA60F1F6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722D-5D97-4F5F-B0FF-B02C90903E06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va Educariumin aulas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obby of the Educarium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2EA6-8759-4DF3-B660-7B82D427FA42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1 käyttöön otettu Educarium, Assistentinkatu 5 (Kasvatustieteet, opettajankoulutus, ATK-keskus) Rakennuksen ovat suunnitelleet arkkitehdit Matti Nurmela, Antti Luutonen, Anne Kleemola ja Matti Huhtam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nce 2001 Educarium has housed the Faculty of Education, the Department of Teacher Education and the University Computing Cent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1A9A-87EA-40B6-9B3C-94477D29FDBA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0BF-55E3-4D36-81DD-74CE9CC3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F78-83DF-485E-BD39-52D324DB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EF6-A83A-42E4-9979-72C2B067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604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880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328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604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880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20A-11EF-4C42-85AC-250315CE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2CD6-007D-4709-9EB6-146D7402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1895-0C63-40BE-AE06-3B0227EF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6030-5EC3-498A-A2F3-6621A34B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5EDB-8B6B-43EE-814F-1EE74FB9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9C23-B534-47E4-8701-98D91A22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C393-F42A-4FB6-9DA2-36C54FCB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4773-8F89-44CB-8C0F-54EB97E7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8D77-EFED-4495-B265-7C0D82E8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64D2-95B3-4E00-A54D-8E631B87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4FDA-3E78-481F-A441-9AD4F3C5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356A-3C61-4F5A-87BC-64F30AC7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EA98-1439-4612-9FE7-680D8404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604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880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6604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880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3514-5F68-4A40-AA33-A47379CE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D54-07A8-4F34-9321-7E0D236D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F16-D693-4048-ADB2-989C8D08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80B-43AC-497B-95F8-6F1E44A2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A26-1843-4A51-9930-64534756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786-8A8D-447D-AE1E-DA302F6A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7C8-1F5D-47F6-9D57-0D03EA47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836-42EB-45E2-B3CD-4DB38092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811640" y="6656400"/>
            <a:ext cx="978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F5D8-15BE-4987-BC09-0029FAA78D9C}" type="datetime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68000" y="6480000"/>
            <a:ext cx="5543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11640" y="6479640"/>
            <a:ext cx="97956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AF03-E4BC-4831-A0DC-80CF5E84DE6E}" type="slidenum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7320" y="157320"/>
            <a:ext cx="982440" cy="656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6520" y="2133360"/>
            <a:ext cx="7283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7320" y="157320"/>
            <a:ext cx="982440" cy="6561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811640" y="6656400"/>
            <a:ext cx="978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DABC-D8A1-41C1-8061-9FA4D01813D8}" type="datetime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268000" y="6480000"/>
            <a:ext cx="5543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811640" y="6479640"/>
            <a:ext cx="97956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3958-1367-4623-8420-7060BC1485B8}" type="slidenum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227664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Arial"/>
              </a:rPr>
              <a:t>Факультет образования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6520" y="5444640"/>
            <a:ext cx="72835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University of Turku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Боллонский процесс и новые степен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С августа 2005 года Финляндия присоединилась к Боллонскому Соглашению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Университетское образование имеет двухступенчатую структуру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Первый цикл заканчивается на уровне бакалавратуры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минимум 3 года обучения, 180 кредитов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второй цикл заканчивается на уровне магистратуры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Подробнее 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http://www.edu.utu.fi/en/studying/undergraduat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C96-8F86-412A-BF37-ED344DDB24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Структура степеней </a:t>
            </a: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образование, образование взрослых, специальное образование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3280" y="2060640"/>
            <a:ext cx="356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кредитов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Языки, коммуникация, методика -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26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кредитов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Начальное образование (1-7 классы)- 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25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кредитов, основное образование – 35 кредитов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s (2-3) 50-6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Orientation to Working Life 20-24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Electives 10-24 ECTS</a:t>
            </a:r>
            <a:r>
              <a:rPr b="0" lang="fi-FI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21360" y="2060640"/>
            <a:ext cx="356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кредитов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Studies 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major 70 ECTS (incl. thesis 40 ECT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Electives 45 ECTS (e.g. minor subject studies or pedagogical studies in teacher education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086-D201-46A5-84FB-FA311C458A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CLASS TEACHER EDUCATION</a:t>
            </a:r>
            <a:br>
              <a:rPr sz="2000"/>
            </a:b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356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&amp; Communication Studies 2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sic 25 ECTS* &amp; Intermediate Studies 35 ECTS in Educ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Studies in Subjects Taught in Comprehensive School 6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or Electives 4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21360" y="1628640"/>
            <a:ext cx="356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Studies 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Education 80 ECTS (incl. Pedagogical Studies in Teacher Ed. 35 ECTS* and Thesis 30 ECT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3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60930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f5f5f"/>
                </a:solidFill>
                <a:latin typeface="Arial"/>
              </a:rPr>
              <a:t>* Pedagogical Studies in Teacher Education 60 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0B9-5493-42D9-ACDB-5AD2525E68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CRAFT TEACHER EDUC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65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&amp; Communication Studies 2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sic 25 ECTS &amp; Intermediate Studies 35 ECTS in Craft Educ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edagogical Studies in Teacher Educ. 2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or Electives 7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21360" y="1599840"/>
            <a:ext cx="3565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Studies 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Craft Education 70 ECTS (incl. Thesis 40 ECT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edagogical Studies in Teacher Educ. 3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1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FA1-AC01-42D2-B1E7-68DFF1FCDB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KINDERGARTEN TEACHER EDU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03280" y="2276640"/>
            <a:ext cx="7283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&amp; Communication Studies 2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sic 25 ECTS &amp; Intermediate Studies 35 ECTS in Educ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rofessional Studies 6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2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ractise 1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FF8-2D5F-4DC8-8706-539C3EF7C6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283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LEARNING, LEARNING ENVIRONMENTS &amp; EDUCATIONAL SYSTEM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03280" y="2349360"/>
            <a:ext cx="72835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Orientation and General Studies 1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major 80 ECTS (incl. Thesis 40 ECTS and internship 10 ECTS)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Elective Studies and Special Fields 30 ECT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A32-B24C-4E42-9346-694EBCA295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Arial"/>
              </a:rPr>
              <a:t>Факультет образования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Основан в 1974 году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1375 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студентов-соискателей степени баклавров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and 260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- степени магистра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190 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соискателей степени доктора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Ежегодно подают заявления около 5000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принимают менее 300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Штат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: 180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 чел.факультет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+ 120 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в школах, где проводится практика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Степени в 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2008: BA 197, MA 349, Phil. Lic. 6, Ph.D. 8</a:t>
            </a:r>
            <a:r>
              <a:rPr b="0" lang="fi-FI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D9C-61F6-4455-8AB0-D06E5806F0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03280" y="475920"/>
            <a:ext cx="7283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Отделения факультета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Отделение образования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Отделение образования учителей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в Турк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Отделение образования  учителей в Раума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Базовые школы (где организована практика студентов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Школа в Турку(все уровни школьного образования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Школа в Раума (только начальная школа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5F2-EBDF-4D49-AC27-DA4C824F1B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Arial"/>
              </a:rPr>
              <a:t>Публикации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20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публикаций в год на финском языке в Финлянди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3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публикаций в год на иностранных языках в Финлянди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7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публикаций в год зарубежом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C8F-6655-4570-B48F-D0F5A3B3D7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5f5f"/>
                </a:solidFill>
                <a:latin typeface="Arial"/>
              </a:rPr>
              <a:t>Исследовательские центры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Центр исследований в области образования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www.otuk.utu.fi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Центр исследований непрерывного образования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vanha.edu.utu.fi/ktl/cele/index_engl.htm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Отдел оценки качества и развития образования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www.edu.utu.fi/erillisyksikot/koulutuksenarviointi/en/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1E9-04F7-4938-8ACD-A4F1AEF945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"/>
              </a:rPr>
              <a:t>GRADUATE SCHOOLS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The Finnish National Graduate School in Education and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Doctoral Programme for Multidisciplinary Research on Learning Environmen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Graduate School for Family Stud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EDUCA – the internal graduate school of the Faculty of Educ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3C6-F1B5-4C90-A9F0-772E34FBE2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03280" y="549360"/>
            <a:ext cx="7283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Degree programme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Adult Education (Turku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Educational Science (Turku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Special Education (Turku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Class Teacher Education (Turku and Rauma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Kindergarten Teacher Education (Rauma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Craft Teacher Education (Rauma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aster’s degree programme in Learning, Learning Environments and Educational Systems (in English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aster’s degree programme in Educational Sociology &amp; Politics (in Finnish, in cooperation with the University of Helsinki &amp; University of Tamper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4296-4F89-4761-BACD-D94EA47AE6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8:49:28Z</dcterms:created>
  <dc:creator>Mari Mero</dc:creator>
  <dc:description/>
  <dc:language>en-US</dc:language>
  <cp:lastModifiedBy>Vitaly</cp:lastModifiedBy>
  <dcterms:modified xsi:type="dcterms:W3CDTF">2010-01-16T18:36:26Z</dcterms:modified>
  <cp:revision>61</cp:revision>
  <dc:subject/>
  <dc:title>PÄÄOTSIKKO pp.kk.vvvv | tekijä</dc:title>
</cp:coreProperties>
</file>