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8F6-80FA-4C17-892C-4AD5BF375605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7206-7BAF-4C22-A3C4-0A57E6B22885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Educariumin aula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obby of the Educarium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7941-1CCD-4C4A-A502-6D479CA4646E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1 käyttöön otettu Educarium, Assistentinkatu 5 (Kasvatustieteet, opettajankoulutus, ATK-keskus) Rakennuksen ovat suunnitelleet arkkitehdit Matti Nurmela, Antti Luutonen, Anne Kleemola ja Matti Huhta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2001 Educarium has housed the Faculty of Education, the Department of Teacher Education and the University Computing Cent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EA61-281E-404E-BBB1-802782CFB094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ED5-1021-45C7-98DB-AF768635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54C-E5F7-4C25-9866-B7564EB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0A3-CAB4-4C4C-9250-8B92E1E8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DCE-BD92-4EF1-9657-285C04A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8C80-2E66-4865-B13C-BBCBD36B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17D4-06BC-4BD5-8053-7D81643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4761-6484-4A6B-AE83-E83A5475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0EBE-1D4B-4432-9883-2C7289DF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002A-0216-4628-BD6C-C8E30B0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0106-B2B0-4A22-AAD1-A2B3A4F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193-8D4F-4121-BB80-79279B9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408-F08F-4031-8540-61C96F4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C13E-B53D-4C44-BDFA-ECF2BCC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A22-27D6-4E80-825F-8113B66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B9A-B8AD-41AA-B3FD-E4231D9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B32-6BEF-4D52-A9A6-23D28D71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6819-75FC-4F9D-A398-8DE031C7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26A-C501-45AC-B32A-C4F5D08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26B-5D04-4600-A363-D7C07256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7F6-5889-455C-AB38-096D5516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59E-699A-4DFB-8C27-D7A9841D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7B8-9A24-4AAE-A2C8-99E2947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958-21B7-4E43-806E-58934AB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260-1C67-46C7-A010-166BA99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AFEB-2616-4877-876A-E9099F14AF6E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E99C-23D1-4A18-9965-FBBFA2A42B1B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520" y="2133360"/>
            <a:ext cx="7283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B1E9-EC22-4FE4-8682-D9FD06B718CA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499-F8A6-4D13-9D43-FE2CBE2215D5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227664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6520" y="5444640"/>
            <a:ext cx="72835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University of Turku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оллонский процесс и новые степен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С августа 2005 года Финляндия присоединилась к Боллонскому Соглашению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Университетское образование имеет двухступенчатую структуру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ервый цикл заканчивается на уровне бакалавратуры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минимум 3 года обучения, 180 кредитов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торой цикл заканчивается на уровне магистратур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одробнее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http://www.edu.utu.fi/en/studying/undergradua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A21-2405-4065-9712-C259F8DFA5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Структура степеней </a:t>
            </a: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бразование, образование взрослых, специальное образование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Языки, коммуникация, методика -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6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Начальное образование (1-7 классы)-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5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, основное образование – 35 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s (2-3) 50-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to Working Life 20-24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10-24 ECTS</a:t>
            </a:r>
            <a:r>
              <a:rPr b="0" lang="fi-FI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136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45 ECTS (e.g. minor subject studies or pedagogical studies in teacher education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97E-EB15-4D14-99EF-26A299FAD0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LASS TEACHER EDUCATION</a:t>
            </a:r>
            <a:br>
              <a:rPr sz="20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*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Studies in Subjects Taught in Comprehensive School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4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136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Education 80 ECTS (incl. Pedagogical Studies in Teacher Ed. 35 ECTS* and Thesis 3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609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* Pedagogical Studies in Teacher Education 60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781-E6EA-495F-81C8-66B6F6005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RAFT TEACHER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Craft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7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136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Craft Education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EAE-B5AD-4803-A1A3-BCBB0F61C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KINDERGARTEN TEACHER EDU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ofessional Studies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actise 1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B11-127C-4DA7-AA72-050D4235E1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LEARNING, LEARNING ENVIRONMENTS &amp; EDUCATIONAL SYSTE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3280" y="2349360"/>
            <a:ext cx="72835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and General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80 ECTS (incl. Thesis 40 ECTS and internship 10 ECTS)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 Studies and Special Fields 30 ECT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9B8-CD7F-4567-9777-A7E84C2AFF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снован в 1974 году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375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удентов-соискателей степени баклавров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and 26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- степени магистр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9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оискателей степени доктора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Ежегодно подают заявления около 50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принимают менее 3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Шта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: 18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 чел.факульте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+ 12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в школах, где проводится практик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епени в 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2008: BA 197, MA 349, Phil. Lic. 6, Ph.D. 8</a:t>
            </a: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FBD-7E0D-441C-AB60-B0C58DB6E4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728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тделения факультет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учителей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 Турк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 учителей в Раум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азовые школы (где организована практика студентов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Турку(все уровни школьного образования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Раума (только начальная школа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7A1-EECA-4629-82A0-2245F7900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Публикац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20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финском языке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3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иностранных языках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7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зарубежом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C17-1865-48F1-8409-7D0A17D90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Исследовательские центры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в области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otuk.utu.fi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непрерывного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vanha.edu.utu.fi/ktl/cele/index_engl.ht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тдел оценки качества и развития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edu.utu.fi/erillisyksikot/koulutuksenarviointi/en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55F-8B5D-47CD-BA38-7EDFC08172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GRADUATE SCHOOLS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The Finnish National Graduate School in Education and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octoral Programme for Multidisciplinary Research on Learning Environ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Graduate School for Family Stud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EDUCA – the internal graduate school of the Faculty of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7C7-E12B-4E0E-A7B3-42E4305120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egree programm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Adult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Educational Science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Special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lass Teacher Education (Turku and 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Kindergarten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raft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Learning, Learning Environments and Educational Systems (in English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Educational Sociology &amp; Politics (in Finnish, in cooperation with the University of Helsinki &amp; University of Tampe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112-A592-45E3-9EC1-16143AC617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8:49:28Z</dcterms:created>
  <dc:creator>Mari Mero</dc:creator>
  <dc:description/>
  <dc:language>en-US</dc:language>
  <cp:lastModifiedBy>Vitaly</cp:lastModifiedBy>
  <dcterms:modified xsi:type="dcterms:W3CDTF">2010-01-16T18:36:26Z</dcterms:modified>
  <cp:revision>61</cp:revision>
  <dc:subject/>
  <dc:title>PÄÄOTSIKKO pp.kk.vvvv | tekijä</dc:title>
</cp:coreProperties>
</file>