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43C-F533-4770-8478-7CD878B3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F0AE-DF03-489B-8394-536DE52C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E4A-93EE-4C02-8BF2-444ED058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C5F-94E1-44FD-A086-0EA0EC39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FE4F-F2DF-47C7-B997-AC6F5BCD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80B-C981-418D-BA63-9859D640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3440-4D1B-4D2F-A119-1AF67CC9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15A-4F42-4AC8-B0EC-6562599A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BAE-3241-483A-B2B4-844E1C04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A31-80A7-47FC-9BE0-01238DC2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9FF1-5BD6-47B1-ABBA-5699D942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978-14D0-4B92-887C-60F495ED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3B13-58B7-40CA-AE68-ACED85AEA0A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663480"/>
            <a:ext cx="51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разование в Финлянд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03600" y="1628640"/>
            <a:ext cx="37803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школьное образ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1219320" cy="930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5640" y="2565360"/>
            <a:ext cx="7620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школьное образование является доброволь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амма реализуется в центрах дневного пребывания или средних школ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акцент на игру и позитивный взгляд на жиз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н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а в коман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явление ребёнком инициати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сутствие системы официальной оцен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моциональное, социальное и когнитивное разви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ссоциированная школа ЮНЕС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4a7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70"/>
                </a:solidFill>
                <a:latin typeface="Lucida Sans Unicode"/>
              </a:rPr>
              <a:t>Является школой ЮНЕСКО с 1999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4a7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70"/>
                </a:solidFill>
                <a:latin typeface="Lucida Sans Unicode"/>
              </a:rPr>
              <a:t>В настоящее время обучаются около 1100 студентов, представители 20 национальн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4a7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70"/>
                </a:solidFill>
                <a:latin typeface="Lucida Sans Unicode"/>
              </a:rPr>
              <a:t>Большое значение уделяется сотрудничеству как на национальном</a:t>
            </a:r>
            <a:r>
              <a:rPr b="1" lang="fi-FI" sz="2400" spc="-1" strike="noStrike">
                <a:solidFill>
                  <a:srgbClr val="004a70"/>
                </a:solidFill>
                <a:latin typeface="Lucida Sans Unicode"/>
              </a:rPr>
              <a:t>, </a:t>
            </a:r>
            <a:r>
              <a:rPr b="1" lang="ru-RU" sz="2400" spc="-1" strike="noStrike">
                <a:solidFill>
                  <a:srgbClr val="004a70"/>
                </a:solidFill>
                <a:latin typeface="Lucida Sans Unicode"/>
              </a:rPr>
              <a:t>так и на интернациональном уровне, школа принимает активное участие в проектах Евросоюза</a:t>
            </a:r>
            <a:br>
              <a:rPr sz="2800"/>
            </a:br>
            <a:r>
              <a:rPr b="1" lang="fi-FI" sz="2800" spc="-1" strike="noStrike">
                <a:solidFill>
                  <a:srgbClr val="004a7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tarja.ruohonen@utu.f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476280"/>
            <a:ext cx="2971800" cy="398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кольное образование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00880" y="533520"/>
            <a:ext cx="3363840" cy="1917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1631880"/>
            <a:ext cx="54100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т никакого отбора в школ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т альтернативы школе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вятилетнее обязательное школьное образ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кольные предметы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дной язык  (Финский, Шведский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торой национальный язык (Финский, Шведский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остранные язы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ажданское образ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лигия или э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ки об обществ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из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им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иолог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еограф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из-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кус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у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машняя эконом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1125360"/>
            <a:ext cx="5545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Является обязательным для всех финских гражд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ысшая ступень среднего 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шие классы школы: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отборе учитываются дости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есс в достижениях индивиду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дут  больше 50% от всех, кто закончил начальную школ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уденты нацелены на будущее академическое образ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фессиональное образование и подгото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иентация на навыки и дальнейшую профессиональную деятель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5 программ для начального профессионального образования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5445000"/>
            <a:ext cx="1295640" cy="1114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 flipH="1">
            <a:off x="7667640" y="5229360"/>
            <a:ext cx="1279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3280" y="609120"/>
            <a:ext cx="553104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ысшее образ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итехническое образ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а формируется с начала 1990-х год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29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итехнических институ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редители: государство, муниципалитеты, бизне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олжительность учёбы 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 3,5 - 4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да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 (140-16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едитов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епень бакалавра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того, чтобы пойти работать – минимум 20 креди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ниверситетское образ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епень бакалавра – 180 креди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епень магистра -160-180 креди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дополнение к бакалавриату и магистратуре университеты также реализуют программы по подготовке взрослых к поступлению в ВУ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700360" y="2276640"/>
            <a:ext cx="165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ниверсит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2205000"/>
            <a:ext cx="16574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техниче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стит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284640"/>
            <a:ext cx="2087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ршая ступ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ней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3213000"/>
            <a:ext cx="20876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редне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фессиональ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4869000"/>
            <a:ext cx="2447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зовое образ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-396720" y="4797000"/>
            <a:ext cx="2808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язательное образ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6021360"/>
            <a:ext cx="5184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школьное образ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404640"/>
            <a:ext cx="77724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TURUN NORMAALIKOULU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кола подготовки учителей г. Тур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1741320"/>
            <a:ext cx="6858000" cy="1611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3733920"/>
            <a:ext cx="6934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кола факультета образования Университета Тур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ая большая школа подготовки учителей в Финлянд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 уровни общего образования – от базового до старшей средней шк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Школа в цифра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981080"/>
            <a:ext cx="60199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110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иков</a:t>
            </a: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 (7 – 19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т</a:t>
            </a: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10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угие работники –</a:t>
            </a: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85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удентов-педагогов в начальной шко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25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удентов – педагогов-предмет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ощадь школы</a:t>
            </a: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 10 000 m</a:t>
            </a:r>
            <a:r>
              <a:rPr b="1" lang="fi-F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роена в</a:t>
            </a: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 198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г.</a:t>
            </a: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Обязанности школы подготовки учител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981080"/>
            <a:ext cx="6705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еспечение обучения для общеобразовательной школы и старшей средней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раторство над учителями-студент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спериментирование в области школьного препода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сле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Inservice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ши дополнительные програм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лингвальное образование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1 класса)</a:t>
            </a:r>
            <a:r>
              <a:rPr b="0" lang="fi-FI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MYP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ы для среднего возраста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  (in grades 5 – 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а по международному бакалавриату(старшая школа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0T16:41:03Z</dcterms:created>
  <dc:creator>Pekka Räisänen</dc:creator>
  <dc:description/>
  <dc:language>en-US</dc:language>
  <cp:lastModifiedBy>Vitaly</cp:lastModifiedBy>
  <cp:lastPrinted>2000-08-23T19:29:49Z</cp:lastPrinted>
  <dcterms:modified xsi:type="dcterms:W3CDTF">2010-01-16T18:36:43Z</dcterms:modified>
  <cp:revision>46</cp:revision>
  <dc:subject/>
  <dc:title>Ei dian otsikkoa</dc:title>
</cp:coreProperties>
</file>