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10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90612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200">
                <a:moveTo>
                  <a:pt x="5" y="0"/>
                </a:moveTo>
                <a:arcTo wR="5" hR="5" stAng="16200000" swAng="-5400000"/>
                <a:lnTo>
                  <a:pt x="0" y="31195"/>
                </a:lnTo>
                <a:arcTo wR="5" hR="5" stAng="10800000" swAng="-5400000"/>
                <a:lnTo>
                  <a:pt x="21595" y="312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90612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200">
                <a:moveTo>
                  <a:pt x="5" y="0"/>
                </a:moveTo>
                <a:arcTo wR="5" hR="5" stAng="16200000" swAng="-5400000"/>
                <a:lnTo>
                  <a:pt x="0" y="31195"/>
                </a:lnTo>
                <a:arcTo wR="5" hR="5" stAng="10800000" swAng="-5400000"/>
                <a:lnTo>
                  <a:pt x="21595" y="312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525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704840"/>
            <a:ext cx="548316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40860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760" y="940860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0094A-284D-401D-BA18-217ABDF4A3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8AC31-4175-4731-A84A-E631A2F588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AEDC8-19F9-4D37-B0DA-524D57134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41666-1D98-4302-90FF-642D0D8F5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BC8F0-E6A6-4F4A-833D-AB8D896B26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ECB17-C9B7-48BE-8624-B154D4C4F3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95F86-5FB1-465D-8BAE-D9F2281546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92280" y="4706640"/>
            <a:ext cx="54864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iotechnology, Plant Physiology and Molecular Biology, Medical Physics and Chemistry and the Centre for Biotechnology are located in the BioCity Buil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7037C-1F49-4BFD-A482-05DB36F91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D5797-D33E-4141-9157-DA236C0AD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705200"/>
            <a:ext cx="5486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octoral students from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earning Environ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raduate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291A8-5E33-4F07-8D84-36AB504FCD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C5C64-A391-4E5A-876F-DCCCCFCF52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64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lobby of the Educarium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34407-4AA7-4F67-B119-C86234F8C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3A404-0274-4063-8C65-D75C3BE818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6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versity of Turku main building on the University H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7CF36-3A6C-4FCA-8726-DE1B7FC95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56E0A-5A4F-4D31-B7A3-542C31DC9C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1079640" y="781200"/>
            <a:ext cx="457200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AEE19-DC7A-405D-9027-9AF7CAA2EA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CB679-BBA3-44BE-A729-074390E638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8FBF8-89D2-4D9C-8972-D56ED5543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A2645-CDF1-4068-8018-DFC3CCC76E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77286-5C85-498A-813B-8A15F12005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705200"/>
            <a:ext cx="54864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Assembly hall of the Akatemiatalo. It is one of the most dignified public interiors in Fin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6DE34-0AF5-4159-9085-9411CBD709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90041-D963-478C-9776-9462690DAE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3F368-E10D-4AA7-80C3-7F9235C02A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3884760" y="9408960"/>
            <a:ext cx="2968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81EBD-7057-4002-8086-2276D77D9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1143000" y="743040"/>
            <a:ext cx="45720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08000" y="633744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Times New Roman"/>
              </a:rPr>
              <a:t>20.12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524720" y="5877000"/>
            <a:ext cx="1443240" cy="65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3"/>
          <a:stretch/>
        </p:blipFill>
        <p:spPr>
          <a:xfrm>
            <a:off x="3274920" y="549360"/>
            <a:ext cx="2376720" cy="107928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2"/>
          <p:cNvSpPr/>
          <p:nvPr/>
        </p:nvSpPr>
        <p:spPr>
          <a:xfrm>
            <a:off x="68580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2967120"/>
            <a:ext cx="9140760" cy="14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6021360"/>
            <a:ext cx="9107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86880"/>
            <a:ext cx="91440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Университет Турку, Финлянди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-2066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исло студентов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1922-2007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21" name="Object 2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3"/>
          <p:cNvGraphicFramePr/>
          <p:nvPr/>
        </p:nvGraphicFramePr>
        <p:xfrm>
          <a:off x="0" y="1628640"/>
          <a:ext cx="8937720" cy="496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28640"/>
                    <a:ext cx="89377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8172360" y="2001960"/>
            <a:ext cx="7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,0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0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322560" y="722160"/>
            <a:ext cx="807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дминистрация Университ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971640" y="2058840"/>
            <a:ext cx="2232000" cy="86544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ниципа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456000" y="2058840"/>
            <a:ext cx="3276720" cy="865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кто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340000" y="3355920"/>
            <a:ext cx="2303280" cy="2521080"/>
          </a:xfrm>
          <a:prstGeom prst="rect">
            <a:avLst/>
          </a:prstGeom>
          <a:solidFill>
            <a:srgbClr val="73b7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культ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581800" y="3355920"/>
            <a:ext cx="2303280" cy="2521080"/>
          </a:xfrm>
          <a:prstGeom prst="rect">
            <a:avLst/>
          </a:prstGeom>
          <a:solidFill>
            <a:srgbClr val="bc4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ь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ователь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6"/>
          <p:cNvCxnSpPr>
            <a:stCxn id="128" idx="2"/>
            <a:endCxn id="130" idx="0"/>
          </p:cNvCxnSpPr>
          <p:nvPr/>
        </p:nvCxnSpPr>
        <p:spPr>
          <a:xfrm>
            <a:off x="5094000" y="2923920"/>
            <a:ext cx="1640520" cy="43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7"/>
          <p:cNvCxnSpPr>
            <a:stCxn id="128" idx="2"/>
            <a:endCxn id="129" idx="0"/>
          </p:cNvCxnSpPr>
          <p:nvPr/>
        </p:nvCxnSpPr>
        <p:spPr>
          <a:xfrm flipV="1" rot="10800000">
            <a:off x="3490200" y="2923920"/>
            <a:ext cx="1602360" cy="43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b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7324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кцент на междисциплинарный профил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 факультетов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24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-108000" y="875520"/>
            <a:ext cx="8458200" cy="66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ACULTIES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44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уманитарный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матика и естественные нау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риспруденция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ые нау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7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900000" y="260280"/>
            <a:ext cx="7391520" cy="80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оритетные области исследова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нау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матические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ние процессов, относящихся к взаимодействию культуры и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строномия и космические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ния в образовании и педагог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earch in Learning and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b2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250920" y="260280"/>
            <a:ext cx="87138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нтры превосходства в университетском образовании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ducation 2007−2009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определённые Министерством просвещния Финляндии (особые программы поддержки и развития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культет юриспруден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а искусства, литературы и музы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раммы по образованию взросл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раммы по развитию взаимодействия в сетях образования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оне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сихологическое образование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Восточная и Юго-восточная университетская се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7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71280"/>
            <a:ext cx="8229600" cy="63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епени в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2008</a:t>
            </a:r>
            <a:br>
              <a:rPr sz="3400"/>
            </a:br>
            <a:br>
              <a:rPr sz="34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,899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тепень Магистра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22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тепень Бакалавра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 степень Доктора</a:t>
            </a:r>
            <a:br>
              <a:rPr sz="3200"/>
            </a:br>
            <a:br>
              <a:rPr sz="3400"/>
            </a:b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TSIKKO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15800"/>
            <a:ext cx="6400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ekstiä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b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395280" y="465480"/>
            <a:ext cx="8229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разование в Финлянд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319480" y="4797360"/>
            <a:ext cx="4535280" cy="1366920"/>
          </a:xfrm>
          <a:prstGeom prst="rect">
            <a:avLst/>
          </a:prstGeom>
          <a:solidFill>
            <a:srgbClr val="0037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азовое 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9 ye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язательное 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319480" y="3213000"/>
            <a:ext cx="1944720" cy="1225800"/>
          </a:xfrm>
          <a:prstGeom prst="rect">
            <a:avLst/>
          </a:prstGeom>
          <a:solidFill>
            <a:srgbClr val="0037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аршая ступень школ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911840" y="3213000"/>
            <a:ext cx="1944720" cy="1225800"/>
          </a:xfrm>
          <a:prstGeom prst="rect">
            <a:avLst/>
          </a:prstGeom>
          <a:solidFill>
            <a:srgbClr val="0037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фессиональное  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319480" y="1628640"/>
            <a:ext cx="1944720" cy="1225800"/>
          </a:xfrm>
          <a:prstGeom prst="rect">
            <a:avLst/>
          </a:prstGeom>
          <a:solidFill>
            <a:srgbClr val="0037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ниверситет (3+2+4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911840" y="1628640"/>
            <a:ext cx="1944720" cy="1225800"/>
          </a:xfrm>
          <a:prstGeom prst="rect">
            <a:avLst/>
          </a:prstGeom>
          <a:solidFill>
            <a:srgbClr val="0037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ититехни ческий инстит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3,3-4,5 года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3327480" y="4433400"/>
            <a:ext cx="1440" cy="366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V="1">
            <a:off x="5846760" y="4433400"/>
            <a:ext cx="1440" cy="366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V="1">
            <a:off x="3327480" y="2849040"/>
            <a:ext cx="1440" cy="366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V="1">
            <a:off x="5846760" y="2849040"/>
            <a:ext cx="1440" cy="366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3327480" y="3068640"/>
            <a:ext cx="25192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380880" y="579960"/>
            <a:ext cx="829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ниверситетские степен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348000" y="4797360"/>
            <a:ext cx="2521080" cy="1058760"/>
          </a:xfrm>
          <a:prstGeom prst="rect">
            <a:avLst/>
          </a:prstGeom>
          <a:solidFill>
            <a:srgbClr val="72a0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ь бакалав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80 креди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 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348000" y="3357720"/>
            <a:ext cx="2521080" cy="1058760"/>
          </a:xfrm>
          <a:prstGeom prst="rect">
            <a:avLst/>
          </a:prstGeom>
          <a:solidFill>
            <a:srgbClr val="72a0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ь магист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20 креди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 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348000" y="1916280"/>
            <a:ext cx="2521080" cy="1058760"/>
          </a:xfrm>
          <a:prstGeom prst="rect">
            <a:avLst/>
          </a:prstGeom>
          <a:solidFill>
            <a:srgbClr val="72a0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епень  докт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4572000" y="4433400"/>
            <a:ext cx="1440" cy="366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4572000" y="2994120"/>
            <a:ext cx="1440" cy="366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24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96720" y="134280"/>
            <a:ext cx="9828000" cy="472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КАДЕМИЧЕСКОЕ НАСЛЕДИЕ ТУРКУ – с 1640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левская Академия Турку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адемия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boensi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1640–1828)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времён Великого пожара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2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0" y="194760"/>
            <a:ext cx="91440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200"/>
            </a:br>
            <a:br>
              <a:rPr sz="42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ниверситет Турку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ый финскоязычный университет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л основан в 1920 году</a:t>
            </a:r>
            <a:br>
              <a:rPr sz="3200"/>
            </a:br>
            <a:br>
              <a:rPr sz="3200"/>
            </a:b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т свободного народа -свободному просвещению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en-GB" sz="4400" spc="-1" strike="noStrike">
                <a:solidFill>
                  <a:srgbClr val="5f5f5f"/>
                </a:solidFill>
                <a:latin typeface="Arial"/>
              </a:rPr>
              <a:t> 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8229600" cy="5686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rcRect l="14049" t="13980" r="67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7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395280" y="1888200"/>
            <a:ext cx="8294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50 году на Университетском холме был построен новый университетский городок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74 году университет из частного переведён в статус государствен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24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804000" y="1125360"/>
            <a:ext cx="1925640" cy="4343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457200" y="1911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92000" y="333360"/>
            <a:ext cx="874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ощадки университ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урку(местоположение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916280"/>
            <a:ext cx="71992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род Тур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ьский центр по изучению окружающе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evo Subarctic Research Institute (Utsjok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takunta Environmental Research Centre (Por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chipelago Research Institute (Seili, Nau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деление факультета образования 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u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ерватория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orla  (Piikk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а културологии и изучения ландшафт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Por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нтр Морских исследовани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Pori, Raum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деление информационных технологи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Sa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зей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nhalinna  (Lie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164360" y="5433840"/>
            <a:ext cx="6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e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iikki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435800" y="5213520"/>
            <a:ext cx="174600" cy="17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7596360" y="5300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6443640" y="5661000"/>
            <a:ext cx="146160" cy="1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15640" y="55897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u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948360" y="4869000"/>
            <a:ext cx="146160" cy="13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233400" y="476244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u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6924600" y="4624560"/>
            <a:ext cx="146160" cy="13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7020000" y="5145120"/>
            <a:ext cx="2476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6432480" y="45338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5"/>
          <p:cNvSpPr/>
          <p:nvPr/>
        </p:nvSpPr>
        <p:spPr>
          <a:xfrm>
            <a:off x="7236000" y="5310360"/>
            <a:ext cx="145800" cy="13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6516720" y="5300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ur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7956720" y="10526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tsjo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8"/>
          <p:cNvSpPr/>
          <p:nvPr/>
        </p:nvSpPr>
        <p:spPr>
          <a:xfrm>
            <a:off x="7740720" y="1268280"/>
            <a:ext cx="146160" cy="1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7236000" y="5084640"/>
            <a:ext cx="145800" cy="1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7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55680"/>
            <a:ext cx="8229600" cy="64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17,400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удентов</a:t>
            </a:r>
            <a:br>
              <a:rPr sz="4400"/>
            </a:br>
            <a:br>
              <a:rPr sz="34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2,30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искатели степеней бакалавра и магистра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,10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искатели степеней доктора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,00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удентов, посещающих  только отдельные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estintä</dc:creator>
  <dc:description/>
  <dc:language>en-US</dc:language>
  <cp:lastModifiedBy>Vitaly</cp:lastModifiedBy>
  <dcterms:modified xsi:type="dcterms:W3CDTF">2010-01-16T18:37:07Z</dcterms:modified>
  <cp:revision>50</cp:revision>
  <dc:subject/>
  <dc:title>Turun yliopisto</dc:title>
</cp:coreProperties>
</file>