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486-9074-44D7-A008-43FF2E4B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BBF-62BC-4343-905E-17360B05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E38-1B1B-4603-89CD-0362130E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1F4-7023-486C-B1AE-473318C3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BEC-2486-4C25-A92F-C4A8C5DB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4AB-48C8-46C8-A7C3-2606DA9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3B9-C757-47BF-ADD8-6D89BE8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055-F5D4-43B1-8FF0-878C921B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3CC-9573-4427-964E-D3A7B8BB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8D6-26D3-410E-984F-74CD906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1C5-9699-44C4-B274-1E04499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252-E3A1-43B9-9BC2-6C8E904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27B-3B40-43A3-8B7F-C53886BF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щественное движение «Ассоциация «Учитель года Карел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АНО «Центр образования и культуры «Норд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67640" y="3716280"/>
            <a:ext cx="1476360" cy="9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2492280"/>
            <a:ext cx="1476360" cy="115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940360" y="4797360"/>
            <a:ext cx="3203640" cy="206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08360" y="981000"/>
            <a:ext cx="3959280" cy="2525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664400" y="981000"/>
            <a:ext cx="149868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372360" y="3141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708360" y="3286080"/>
            <a:ext cx="271152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981000"/>
            <a:ext cx="3749760" cy="5877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1484280"/>
            <a:ext cx="3533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о-метод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«Предпосылки мирового лидерства и конкурентные преимущества национальных систем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(на примере Финлянд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26 апреля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заводск, Хельсинки, Тампере,Тур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0280" y="6400800"/>
            <a:ext cx="26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руничева Ирина Геннад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валевский Дмитрий Мар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егулярность исследо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чества образования как фа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69320" y="0"/>
            <a:ext cx="1174680" cy="1557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9440" y="1940760"/>
            <a:ext cx="774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исследованиях 60-х годов по математическим достиже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IEA -1964) успехи Финляндии были невысоки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ом же исследовании 1981 года она уже на среднем уров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исследовании TIMMS -1999 результаты это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 существенно выше среднего (только 6 из 38 ст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ли статистически значимые более высокие результа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исследован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SA 2003,200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е лидеров по всем пози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нцепция государства как фа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69320" y="0"/>
            <a:ext cx="1174680" cy="155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7240" y="2708640"/>
            <a:ext cx="771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Успех- следствие целенаправленных реформ, вызванных иде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государства благосостоя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Реформа системы образования стала ядром централь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Невозможно рассматривать финскую систему образования в отры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процесса общественно-экономического и полит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ы в ц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нцепция государства как фа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69320" y="0"/>
            <a:ext cx="1174680" cy="155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640" y="2417400"/>
            <a:ext cx="850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60-х годов Финляндия - аграрная стра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% населения которой было связано с сельс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йственными профессиями, которые традицио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вались от отца к сы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бразования строилась с учётом тог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ёжь рано включалась в производ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в сельском хозяйстве и не бы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интересована в получении высшего образ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24760" y="0"/>
            <a:ext cx="1119240" cy="1484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нцепция государства как фактор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ало 60-х годов- кризис перепроизводства с/х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ая концепция развития общества и государства стала жизненной необходим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 основных элемента государственной политики составляют модель государства благосостояния: необходимость экономического роста, социальные права граждан и гарантированное государством благосостояние гражд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24760" y="0"/>
            <a:ext cx="1119240" cy="1484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нцепция государства как фактор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ым аспектом модели стало обеспечение прав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ждого граждан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полноценное образование - положение, из которого проистекла вся концепция реформ школь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опрос ставился не о том, сколько будут стоить реформы, а о том, сколько государству необходимо средств для их обеспе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4360" y="2334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апный переход к социально-интегративным школам,интегрирующим в общем потоке слабых и сильных учеников, а также детей с какими-либо нарушениями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нтегративным подходом связана и необходимость разрабатывать особые формы и методы учебной работы, согласующиеся с палитрой различных потенциалов учебных достижений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нтеграция как фактор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763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Равенство шансов+равен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результа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се учащиеся, независимо от начальных способностей, благоприятных или неблагоприятных для обучения социальных условий, должны получать к концу 9-го класса одинаково высокий образовательный уровень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вление на второй год юридически не отменено, но признано педагогически и экономически неэффектив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дея равенства как ф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76360" cy="976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3640" y="5681520"/>
            <a:ext cx="62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нская школа устроена так, чтобы обеспе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енство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ская педагогика как в теории, так и на практике призвана обеспечить политическую идею равен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тенденция - отказ от внимания к врожденным способностям или дарованиям и переход к изучению способностей, влияющих на процесс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S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ихевиористская концепция Блума,                    конструктивистская концепция Пи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48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едагогика как фактор 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ые квалифицированные педагоги должны работать в дошкольном секторе и в младшей школе. Именно в этот период можно многое испортить, испортить всю жизнь человека. В старшем звене, конечно, тоже можно навредить, но это сделать не так легко»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цент на дошкольное 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младшую ш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88360" y="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1800" y="314100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кил Фран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це-ректор педагогической высшей школы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3440" y="4149720"/>
            <a:ext cx="889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Нам нужен каждый ученик, мы не можем себе позволить безнаде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ча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6160" y="52293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кка Сарьяла, президент центр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артамента образования в Хельси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60228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.S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ой поток финансирования идет на ступень дошкольного образования и младшей школ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редители школ- местные общ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ая школа обязана - в соответствии с потребностями социума - разработать и реализова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вой индивидуальный педагогический профил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рамках очень общих и широких целей и предписаний, задающихся централизованно, коллегия каждой школы сама разрабатывает свою программу и учебные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централизация и автономия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фактор 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едует ли нам учиться у Финляндии,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610080" cy="210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80360" y="1484280"/>
            <a:ext cx="128592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484280"/>
            <a:ext cx="51544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Всемирный Экономический Форум в Даво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 финскую экономику са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тоспособной в мир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Йельский (Yale) и Колумбийский (Columbi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итеты присваивают странам 'индек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и', которым измеряется способность страны к охране окружающей среды на следующие несколько десятилетий'. Финляндия - первая в списк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Статистика Организации эконом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трудничества и развития показывает, ч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оле ВНП, расходуемой на инвести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учные исследования и разработ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нляндия уступает только Швеции.</a:t>
            </a:r>
            <a:br>
              <a:rPr sz="16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ерие к уч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на государственной инспекции системой эвалюации (самооцен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тмена государственной инспекции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актор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498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министрация, учителя-предметники, класс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кольная се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дсестра, но имеет дополнительное образование в области профилактической оздоровительно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атор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образованию социальный педагог, занимается сферой проблем социального характер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ьный учител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поддержка и работа с отстающими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сист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няющи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сонал кух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кольный персонал как фактор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498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едует ли нам учиться у Финляндии,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61008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80360" y="1484280"/>
            <a:ext cx="1285920" cy="201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3360" y="1817640"/>
            <a:ext cx="5386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Пятнадцатилетние финские школьники лидир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мышленно развитом мире по разви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По данным глобального исследования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ransparency International, Финлянд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читается наименее коррумпиров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аной в мире (США только на 17-м месте)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Финны чаще, чем граждане других стра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тают газеты и берут книги в библиотека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В Финляндии обучается больше музыка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душу населения, чем в лю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ой стра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3716280"/>
            <a:ext cx="147636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7640" y="2492280"/>
            <a:ext cx="147636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940360" y="4797360"/>
            <a:ext cx="320364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195640" y="15840"/>
            <a:ext cx="5472000" cy="34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645320" y="981000"/>
            <a:ext cx="149868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6372360" y="3141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3708360" y="3286080"/>
            <a:ext cx="271152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484280"/>
            <a:ext cx="35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484280"/>
            <a:ext cx="568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Факторы эффектив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финской системы образ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реформы дошкольного образования в 2000 году местные органы управления образованием обязаны предоставить для каждого желающего место в дошкольном учре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% детей посещают подготовительные группы при школе или детский с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ый год начинается в середине августа и оканчивается в ию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собенности ф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идут в школу не ранее 7 лет и на протяжении первых двух лет обучения занимаются в школе всего 4–5 часов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 не менее в возрасте 15 лет финские школьники занимают самые высокие позиции в мировых рейтингах по математике, естественным наукам, чтению и решению задач, опережая на целых 50 пунктов своих сверстников из соседней Норве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собенности ф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ладшая школа(около 3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едметы, кроме иностранных языков, преподает один классный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 (около 6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7 по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ведут учителя предме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.S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динение двух школ под одной крышей встречается только в регионах с высокой плотностью населе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 типичная тенденц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иды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72320" y="0"/>
            <a:ext cx="1471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имназия (около 4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лассная, а курсовая система обучения, продолжительность курса 2-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ной экзамен –централизованный (единый) экз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у выпускника хороший средний балл, то он может подать заявку на поступление в университет. Поступит он или нет - решает приёмная комиссия университ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иды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72320" y="0"/>
            <a:ext cx="1471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ие, холодные, темные зимы- сформировалась традиция чтения, которой нет в европейских странах. Традиционно высокая ценность чтения от старшего поколения передалась детям и молодё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языка: финская орфография соответствует фонетике языка. Расхождения в процессе обучения чтению и письму играют существенн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убежное телевидение используется целенаправленно, перевод  зарубежных фильмов и передач не синхронизируется, это делается в виде 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окультурные услови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ктор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69320" y="0"/>
            <a:ext cx="1174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31:34Z</dcterms:created>
  <dc:creator>Пользователь</dc:creator>
  <dc:description/>
  <dc:language>en-US</dc:language>
  <cp:lastModifiedBy>Vitaly</cp:lastModifiedBy>
  <dcterms:modified xsi:type="dcterms:W3CDTF">2010-01-16T18:37:23Z</dcterms:modified>
  <cp:revision>45</cp:revision>
  <dc:subject/>
  <dc:title>Слайд 1</dc:title>
</cp:coreProperties>
</file>